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31.wmf" ContentType="image/x-wmf"/>
  <Override PartName="/ppt/media/image68.wmf" ContentType="image/x-wmf"/>
  <Override PartName="/ppt/media/image66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D8A2-AE82-4A82-AF8C-A14974CA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B18A-33A7-4DAC-B7D6-E9D26EEC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AF58-C877-4D9B-92D4-17D9E7E9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1636-7463-4617-AD32-A3A1AECF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6AAF-53C6-412C-B894-3D14273A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4B47-0807-4AE5-8AFA-E891FA87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9F1C-C8CD-4054-8453-594E8EC5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CC89-148E-4974-8988-7FEB5CCB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239D-98A8-4991-B58E-19B1DFF8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ECE8-CBB4-4660-8C2A-AAE8655B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0308-5468-49FB-9333-A3430229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3FFA-2970-44D9-B454-29420E1F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212D-DD63-4FC6-B7F1-3976F588C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58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9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0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6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6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9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0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7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72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6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77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78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8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82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83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84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0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6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7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2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3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8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9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30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3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36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9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0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4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42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6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47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48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52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3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54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2120" y="533520"/>
          <a:ext cx="2514600" cy="277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3429000" y="533520"/>
          <a:ext cx="2514600" cy="277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6095880" y="533520"/>
          <a:ext cx="2514600" cy="2771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62120" y="3505320"/>
          <a:ext cx="2514600" cy="27716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429000" y="3505320"/>
          <a:ext cx="2514600" cy="27716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095880" y="3505320"/>
          <a:ext cx="2514600" cy="27716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30672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90520" y="193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2120" y="533520"/>
          <a:ext cx="2514600" cy="277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429000" y="533520"/>
          <a:ext cx="2514600" cy="277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6095880" y="533520"/>
          <a:ext cx="2514600" cy="2771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762120" y="3505320"/>
          <a:ext cx="2514600" cy="27716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429000" y="3505320"/>
          <a:ext cx="2514600" cy="27716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6095880" y="3505320"/>
          <a:ext cx="2514600" cy="27716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90520" y="193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762120" y="533520"/>
          <a:ext cx="2514600" cy="277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429000" y="533520"/>
          <a:ext cx="2514600" cy="277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095880" y="533520"/>
          <a:ext cx="2514600" cy="2771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762120" y="3505320"/>
          <a:ext cx="2514600" cy="27716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429000" y="3505320"/>
          <a:ext cx="2514600" cy="27716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6095880" y="3505320"/>
          <a:ext cx="2514600" cy="27716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90520" y="193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762120" y="533520"/>
          <a:ext cx="2514600" cy="277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429000" y="533520"/>
          <a:ext cx="2514600" cy="277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6095880" y="533520"/>
          <a:ext cx="2514600" cy="2771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762120" y="3505320"/>
          <a:ext cx="2514600" cy="27716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3429000" y="3505320"/>
          <a:ext cx="2514600" cy="27716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6095880" y="3505320"/>
          <a:ext cx="2514600" cy="27716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90520" y="193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62120" y="533520"/>
          <a:ext cx="2514600" cy="277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3429000" y="533520"/>
          <a:ext cx="2514600" cy="277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6095880" y="533520"/>
          <a:ext cx="2514600" cy="2771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762120" y="3505320"/>
          <a:ext cx="2514600" cy="27716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429000" y="3505320"/>
          <a:ext cx="2514600" cy="27716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6095880" y="3505320"/>
          <a:ext cx="2514600" cy="27716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90520" y="193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62120" y="533520"/>
          <a:ext cx="2514600" cy="277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3429000" y="533520"/>
          <a:ext cx="2514600" cy="277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6095880" y="533520"/>
          <a:ext cx="2514600" cy="2771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762120" y="3505320"/>
          <a:ext cx="2514600" cy="27716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6095880" y="3505320"/>
          <a:ext cx="2524320" cy="27813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3505320"/>
                    <a:ext cx="252432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3429000" y="3505320"/>
          <a:ext cx="2523960" cy="27813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3505320"/>
                    <a:ext cx="252396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62120" y="533520"/>
          <a:ext cx="2514600" cy="277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429000" y="533520"/>
          <a:ext cx="2514600" cy="277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095880" y="533520"/>
          <a:ext cx="2514600" cy="2771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762120" y="3505320"/>
          <a:ext cx="2514600" cy="27716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429000" y="3505320"/>
          <a:ext cx="2514600" cy="27716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095880" y="3505320"/>
          <a:ext cx="2514600" cy="27716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0672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62120" y="533520"/>
          <a:ext cx="2514600" cy="277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429000" y="533520"/>
          <a:ext cx="2514600" cy="277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6095880" y="533520"/>
          <a:ext cx="2514600" cy="2771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762120" y="3505320"/>
          <a:ext cx="2514600" cy="27716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429000" y="3505320"/>
          <a:ext cx="2514600" cy="27716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6095880" y="3505320"/>
          <a:ext cx="2514600" cy="27716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90520" y="193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90520" y="193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62120" y="533520"/>
          <a:ext cx="2514600" cy="277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429000" y="533520"/>
          <a:ext cx="2514600" cy="277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095880" y="533520"/>
          <a:ext cx="2514600" cy="2771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762120" y="3505320"/>
          <a:ext cx="2514600" cy="27716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429000" y="3505320"/>
          <a:ext cx="2514600" cy="27716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095880" y="3505320"/>
          <a:ext cx="2514600" cy="27716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90520" y="193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2120" y="533520"/>
          <a:ext cx="2514600" cy="277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429000" y="533520"/>
          <a:ext cx="2514600" cy="277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095880" y="533520"/>
          <a:ext cx="2514600" cy="2771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762120" y="3505320"/>
          <a:ext cx="2514600" cy="27716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429000" y="3505320"/>
          <a:ext cx="2514600" cy="27716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6095880" y="3505320"/>
          <a:ext cx="2514600" cy="27716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90520" y="193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533520"/>
          <a:ext cx="2514600" cy="277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429000" y="533520"/>
          <a:ext cx="2514600" cy="277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095880" y="533520"/>
          <a:ext cx="2514600" cy="2771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62120" y="3505320"/>
          <a:ext cx="2514600" cy="27716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429000" y="3505320"/>
          <a:ext cx="2514600" cy="27716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095880" y="3505320"/>
          <a:ext cx="2514600" cy="27716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90520" y="193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533520"/>
          <a:ext cx="2514600" cy="277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429000" y="533520"/>
          <a:ext cx="2514600" cy="277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095880" y="533520"/>
          <a:ext cx="2514600" cy="2771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762120" y="3505320"/>
          <a:ext cx="2514600" cy="27716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429000" y="3505320"/>
          <a:ext cx="2514600" cy="27716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095880" y="3505320"/>
          <a:ext cx="2514600" cy="27716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90520" y="193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62120" y="533520"/>
          <a:ext cx="2514600" cy="277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429000" y="533520"/>
          <a:ext cx="2514600" cy="277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6095880" y="533520"/>
          <a:ext cx="2514600" cy="2771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762120" y="3505320"/>
          <a:ext cx="2514600" cy="27716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429000" y="3505320"/>
          <a:ext cx="2514600" cy="27716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6095880" y="3505320"/>
          <a:ext cx="2514600" cy="27716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90520" y="193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62120" y="533520"/>
          <a:ext cx="2514600" cy="277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429000" y="533520"/>
          <a:ext cx="2514600" cy="277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6095880" y="533520"/>
          <a:ext cx="2514600" cy="2771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5335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762120" y="3505320"/>
          <a:ext cx="2514600" cy="27716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3505320"/>
          <a:ext cx="2514600" cy="27716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095880" y="3505320"/>
          <a:ext cx="2514600" cy="27716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3505320"/>
                    <a:ext cx="25146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3T11:41:30Z</dcterms:created>
  <dc:creator>johnnyfg</dc:creator>
  <dc:description/>
  <dc:language>en-US</dc:language>
  <cp:lastModifiedBy>johnnyfg</cp:lastModifiedBy>
  <dcterms:modified xsi:type="dcterms:W3CDTF">2002-03-03T22:59:59Z</dcterms:modified>
  <cp:revision>35</cp:revision>
  <dc:subject/>
  <dc:title>PowerPoint Presentation</dc:title>
</cp:coreProperties>
</file>